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618-BAE3-4FF6-A35F-CE808C190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8C86-DBFB-4CDC-B16C-92A37715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B60-2D7B-4AA9-AC46-E92E9ED0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28E-132C-4FBC-A267-7357C343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4D2-F3B1-46BD-A03C-DFAFC5B9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6F02-18A4-40E1-8741-01902D8D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367-B00D-49ED-9F02-922A9C9D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364-4A59-4BCE-A7F5-D0811F1D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0E7-83DB-4440-9585-D7174604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414-39E8-4B83-A127-6D1932AF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215-5768-4019-9801-32EE9ABB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BE6-B816-4358-A745-AAEC6067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99D4-CC2E-4337-B5E1-CE6112BC3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90640"/>
            <a:ext cx="5724360" cy="5967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08720" y="2781360"/>
            <a:ext cx="3097080" cy="1295280"/>
          </a:xfrm>
          <a:prstGeom prst="wedgeRectCallout">
            <a:avLst>
              <a:gd name="adj1" fmla="val -97666"/>
              <a:gd name="adj2" fmla="val 18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80000" y="29973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i im the Easter bu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94360" y="2637000"/>
            <a:ext cx="40496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445000"/>
            <a:ext cx="4356000" cy="333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4049640" cy="4221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788000" y="5445000"/>
            <a:ext cx="4356000" cy="333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5445000"/>
            <a:ext cx="4356000" cy="333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3357720"/>
            <a:ext cx="4049640" cy="3500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88000" y="5445000"/>
            <a:ext cx="4356000" cy="333360"/>
          </a:xfrm>
          <a:prstGeom prst="rect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859280" y="3284640"/>
            <a:ext cx="42847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427640" y="0"/>
            <a:ext cx="2952720" cy="2133720"/>
          </a:xfrm>
          <a:prstGeom prst="wedgeRectCallout">
            <a:avLst>
              <a:gd name="adj1" fmla="val 109194"/>
              <a:gd name="adj2" fmla="val -51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260280"/>
            <a:ext cx="25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r GET UP NOW ASS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64000" y="1628640"/>
            <a:ext cx="4032360" cy="18003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35280" y="191628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O.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4049640" cy="3500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987640" y="981000"/>
            <a:ext cx="3888000" cy="2133720"/>
          </a:xfrm>
          <a:prstGeom prst="cloudCallout">
            <a:avLst>
              <a:gd name="adj1" fmla="val 104143"/>
              <a:gd name="adj2" fmla="val -890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162864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DON’T YOU DIE!!!!!!!!!!!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4049640" cy="3500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24360" y="3068640"/>
            <a:ext cx="2737080" cy="1008000"/>
          </a:xfrm>
          <a:prstGeom prst="wedgeRectCallout">
            <a:avLst>
              <a:gd name="adj1" fmla="val -43736"/>
              <a:gd name="adj2" fmla="val 899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24360" y="328464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 THE EASTER BUNNY I DON’T 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4049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87640" y="2637000"/>
            <a:ext cx="4049640" cy="4221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635280" y="0"/>
            <a:ext cx="3241800" cy="2664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20000" y="2924280"/>
            <a:ext cx="1763640" cy="2303280"/>
          </a:xfrm>
          <a:prstGeom prst="cloudCallout">
            <a:avLst>
              <a:gd name="adj1" fmla="val 78351"/>
              <a:gd name="adj2" fmla="val -179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236000" y="3573360"/>
            <a:ext cx="122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HAHAHAHAHAHAHAHAHAH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94360" y="2637000"/>
            <a:ext cx="4049640" cy="4221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165720"/>
            <a:ext cx="2556000" cy="69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-1035000"/>
            <a:ext cx="10512360" cy="8856720"/>
          </a:xfrm>
          <a:prstGeom prst="irregularSeal2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-387360"/>
            <a:ext cx="3456000" cy="3213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948360" y="4797360"/>
            <a:ext cx="2195640" cy="18716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227640" y="0"/>
            <a:ext cx="2916360" cy="18446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2565360"/>
            <a:ext cx="54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BOO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87640" y="2637000"/>
            <a:ext cx="4049640" cy="4221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165720"/>
            <a:ext cx="2627280" cy="69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757080" y="4508640"/>
            <a:ext cx="4049640" cy="184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5589720"/>
            <a:ext cx="2844720" cy="126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43280" y="2131920"/>
            <a:ext cx="6300720" cy="4726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68360" y="2276640"/>
            <a:ext cx="2952720" cy="2950920"/>
          </a:xfrm>
          <a:prstGeom prst="cloudCallout">
            <a:avLst>
              <a:gd name="adj1" fmla="val 81453"/>
              <a:gd name="adj2" fmla="val 775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270828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&amp;!$@^(#&amp;%@*&amp;)(&amp;%$#%*#$@&amp;*%#^%#*&amp;%&amp;$*^(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43280" y="2131920"/>
            <a:ext cx="6300720" cy="472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27640" y="333360"/>
            <a:ext cx="2808360" cy="2060640"/>
          </a:xfrm>
          <a:prstGeom prst="cloudCallout">
            <a:avLst>
              <a:gd name="adj1" fmla="val 101722"/>
              <a:gd name="adj2" fmla="val -47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692280"/>
            <a:ext cx="20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??????????????????????????????????????????????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43280" y="2131920"/>
            <a:ext cx="6300720" cy="4726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2276640"/>
            <a:ext cx="2952720" cy="2950920"/>
          </a:xfrm>
          <a:prstGeom prst="cloudCallout">
            <a:avLst>
              <a:gd name="adj1" fmla="val 81453"/>
              <a:gd name="adj2" fmla="val 775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299736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URT ASSHOLE!!!!!!!!!!!!!!!!!!!!!!!!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620640"/>
            <a:ext cx="777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Impact"/>
              </a:rPr>
              <a:t>5 HOURS LATER!!!!!!!!!!!!!!!!!!!!!!!!!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04:54:23Z</dcterms:created>
  <dc:creator>Admin</dc:creator>
  <dc:description/>
  <dc:language>en-US</dc:language>
  <cp:lastModifiedBy>Admin</cp:lastModifiedBy>
  <dcterms:modified xsi:type="dcterms:W3CDTF">2009-04-24T01:26:08Z</dcterms:modified>
  <cp:revision>4</cp:revision>
  <dc:subject/>
  <dc:title>Slide 1</dc:title>
</cp:coreProperties>
</file>